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C74-9435-45D5-85F9-1CB76783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D698-F126-434A-BA5C-6CCAE1F8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0AF03-259C-42A8-BB89-FDF56B24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3EE68-9F33-4782-A47A-C54920F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CCC76-D832-4D8B-B8BE-5F8B525D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EE026-A5B6-4CF5-A89A-771FDB2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D1265-A68B-4BD3-BD23-409CDAE2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C1E3D-879B-4B6A-9747-F6CE8BF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EB1E2-39CD-4553-A4C2-155CC015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CA561-B554-41F7-A7C7-CDB2E332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1EB19-1913-4B6F-979F-E2B12DE7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CB4BCE-AB8E-4A3A-8287-F9EFE411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BAFE-4D0A-4330-B9AA-BECAB2E0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B3079-71C7-4DAD-9349-E5FCDFD3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9B521-B57E-41B4-937B-6746A4F3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E256A-02D2-4A8F-A047-5D321CB1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6B8DE-0079-44EE-99E3-43A3297A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5E584-67A1-44C8-8511-71BA1BA2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BFFDC-9E15-422F-B6B1-26832A1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982D4-8856-4EBB-8DE9-626A3792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0046A-A32A-43B3-8E66-6CF8ACAF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C2737-A012-4471-95E8-BFF69703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8326E-039B-4536-B23D-1E7FB94F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D6D-98B3-4450-9997-3F2D79FB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0AD74-F1D8-4498-BEDD-2B6AD649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721F6-A01A-4528-A556-1316DC7C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600F0-3E42-4DAF-97FB-ED885681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FB6BB-2A0A-4791-9BB4-423B95AB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2AEBE-6BCB-48B9-830C-34E305F5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51028-38C6-4E0C-AF62-5FDAAE16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CC7AF-0C8E-47F5-9661-0BF520B6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7AC89-5DA4-4D1F-9401-437D2508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61986-160C-46DD-891D-AB844714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E1119-D23D-4BF1-B330-B631A1DB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B989-3906-4E89-B6AA-B547067B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2241B-15CF-478A-AFE9-AE360955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140C1-ED8F-4086-94D9-9F40CC27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C57E5-8B33-4D3A-BCB9-6591D17D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1F6D8-04BA-403D-9A06-6DA47FE7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AA84F-4976-478C-90FA-58BF5150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DBD63-7E84-40F1-A0A5-6D61DE57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5568E-8582-4DFB-AFE9-CD710383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E7B0C-CEF9-4958-BEF7-53294AA3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D885E-93D5-4988-B420-14BE131B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8EC18-4CE8-404A-B0E8-F3EEF3F2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1D4A-C746-49F9-972C-B5330787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447CD-AD18-453B-8C21-13DA32C8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1A794-AF39-462C-ACF2-2CBC9564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D71B5-BED7-4F8B-B7A4-582E0329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43364-2C73-4912-9C74-F1AA6EB0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74581-C475-439B-BD37-84A5A3CC8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F2338-FD80-431B-8C34-E69E06DA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120BC-0FC0-4A19-B82A-9A8BD7E2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B96450-588D-43AC-A3AC-520B8883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DB3D6D-40DB-4467-973D-1989AAE4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80B36-2C42-4A9D-99D0-0228F70E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6CD4-06E7-4361-AB71-74DE6E1E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51B9D-B2BA-4EB5-8701-C5CC8835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EA718-175E-4EBE-97E5-2836C3A3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A798B-8B71-4D37-8154-4E63B9AE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4FBE61-F5B1-4F91-AD30-5E21B2A6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931CD-0CCF-46EC-844B-73F9608B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923EA-389B-471B-AE3A-E55C8F14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85F29B-434F-471D-9C4A-7CD6845D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A8F672-6E18-46A1-B9B6-DB9BC6299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AFE3BA-2DB1-4802-A1A1-FA4A3242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AA35D-F66D-40A3-901E-EEF929F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0465-E261-45FC-AC82-C12EE5E7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56018-215E-4CF7-B283-D61205AC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3F0B3-78EA-4D8C-964D-24CAC4A2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0D105-4F13-4C38-9C2F-D4D407E2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15A2F5-F036-4D56-89A9-D2144778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CFE52-A8E6-4C41-A5BF-C8410D24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619869-C645-4658-A6D8-65F128C4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C8D95-A896-4D9C-B233-122BC461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88EE6-6828-41DF-99EB-A5DD7C8B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1177B-61C1-466A-832B-CB29841A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F27C5-42C2-4D43-8208-6BF021772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46DA-E412-4A86-83B0-B6C9DA85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EE5989-00E9-43D5-B1C8-3D154A0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3CD85-2B45-4EBC-92EC-C1BAE7D3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4C879-E3D1-4D4F-B0C9-CF45B178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09749-274C-481E-A974-349B44A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8936A1-4120-4685-82BA-2CEBFA50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B93F3-AA62-4698-AD60-59A03C3D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6154EE-DB45-4BE1-B46C-D48AD490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B8858-CDEA-4E5D-AD3A-A7CD3AFA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EE6524-D2AB-4D54-9802-C8A758BE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4C2ED-89A5-497A-89AC-38AD3B72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3C28-4A83-4970-BE83-F61C5EA0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125ABF-44AC-4B04-8D58-947CDA8F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BB15B-EB9E-4F9D-9194-660EC233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65A492-16AA-4679-82BE-CA2825D1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43F67-B27F-4C7F-BB54-F9E323B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67AC1-B254-4DF1-93F2-A1EF465A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D8DDF-B5FE-45FD-A079-43DD472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33714-8E8E-47C8-8144-879CB937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EB3A7-8775-48D8-9EA4-22338502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46C74-74B5-4C48-9A25-7E7D6B1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A1A59-F2D9-4555-B906-8C6498F2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4C9-0287-4593-B5C4-59012116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3D3F78-2A6F-4D09-9591-958F68BD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79461-3E17-4BB6-8FA8-002F7DCC2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6A9B50-85D1-40BE-ABB3-14FAADEC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3F0253-010A-4728-9BAE-702E6E95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DD25A-0A68-48DB-B1E3-2D61B08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B9D1AD-D084-4519-B1D8-494E5722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975EC-29A2-40E1-9456-17DA6FCA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F6A77-E3F0-4256-B81C-F9A7D44A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52EA07-7B34-48FE-B22C-25212AAE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FBFD1-6AEB-4907-80DB-5BD637A5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9A4-7CFF-4F31-AF40-403EFB89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8418-A31E-4DC1-A0AE-B6A83ED8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2F4FA-1C7C-4C86-BB30-9FC6DCBD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B26DC-0B98-4A2D-A406-2B1A6535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B963F-2E84-48F4-8CBB-329112D3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36AE0-725B-4FE4-B700-623FCBA6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EB069A-E505-4376-B906-D2765C22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B3EA1-7DDF-43B8-A0D1-8A22524A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F3798F-EE10-41BA-9CAE-C4A2873B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A7B90-2F85-414C-86F2-913C4AF8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9609B-9C1B-4DA7-A69E-030FC82B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EAC0C3-F20F-48F5-920F-CC851FEC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BCD0-09E7-42C2-B0F8-B4F0DA7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296F9-2CF2-404C-84AA-C30EAAF8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A2396-B524-45CB-9907-D49AC33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F00C9-D83D-438B-848B-DE50E3D4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D1A04-2570-4094-A72A-654E646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F743F6-F2DF-4185-93B3-A78406DA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6D579-9FB9-4923-A134-D6C050848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38A68-62E8-4493-B117-317C56791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328502-B950-4761-8CE5-A97D6C91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C80C5-C9DE-4487-8880-06E2A709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5A103E-FEA5-496F-8B29-1339BED2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D6FF-126C-4182-AF9B-5AB0D3CB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101DEC-BE2D-401C-80A7-D50DE922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5827E6-505D-4EFD-8EB2-0A2947BE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67C47A-5020-4262-A94C-698328C4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42C6C2-361B-4CF8-A85B-FD49EE19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F7FCC8-CF90-4018-BC61-E65C72B9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D25BB-708A-4466-B726-4A92CC79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EE8E41-F39F-401A-8F1E-55E30AA8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1A165-0EF8-4556-ADE0-615CCDC1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20615-B2BA-4C9E-8DC6-3279CA4A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A4B4F8-0789-4C16-A88F-5F712D79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CA21-516A-4638-80B2-6A6AF9F21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42AAA5-F8EA-4D20-8D7C-2B38DF4E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E07B7-0182-46B5-8EF1-64CF2692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8AB1A-DE0E-4B98-99C1-E18BADB2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A4E99D-10FA-40FF-A331-B7B1044D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8F6539-5D14-4F27-9909-AFC95B9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A120E-C986-43E4-8425-56D3E18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2E97B8-7682-4BC5-ACAC-6F0D4EA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5AA594-DAFB-4353-BE6A-99AA732B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9A2D00-A8FD-4C57-A419-8D9CB5CF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D9B77B-0A7A-45AE-A50E-1A79A928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1981-ECB7-41B1-9BB9-7DEEF160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226324-DFDE-4E99-877A-D6C49921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B21318-3DA8-4D8F-ADCA-922AC791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0C1733-C1BB-4B25-BF89-7E87EB87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5641A1-5BA5-4C2E-9E88-58053811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A9D0B2-8C43-46E9-B6C8-AAD7BBB1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6EABCA-807C-444B-A3C6-055D0B02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8BE9C-A4DA-4957-9450-14FDBE47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98D27-485D-4070-8AAB-05DFBA02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DDD4CA-74D1-48F0-904B-DBCAADCD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2CE18-04CD-4FAA-BCAE-779B3176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3926-B685-4687-845C-7495BEF3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70D35D-4656-46AA-8FA0-A95EB74A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63E294-D174-4893-8A33-A32AF5AD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E5AD9C-CA9A-48A2-99C6-1F5B7DB5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26E25-8DB8-4DF9-91FA-DDECB41F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269A-9C46-4D07-BBC3-9E43DA89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7E6DA-8A38-49C7-A060-5BD25D19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B75A4-0936-4E6F-A5B1-1A8F4B2E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401-636B-4B26-B60B-BDA1F5E4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9027-AFE9-4EB8-816A-7D95D2E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AF803-20B4-4322-A92F-75BB7871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6EC3D-A7A9-4791-9D7A-BC5433C9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6361-18B3-4118-A219-2E1AFBE5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13DD-437C-4589-8834-B43AEAE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665A-CA7A-40D3-B4F4-D7C41696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BC538-0E25-4D4A-8C15-5AA5D5253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07410-4A6A-4BC7-B9FE-CAC27FA8D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D8A97-BC3C-44F6-93E0-08F813E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065C5-29C4-4C41-8DBB-EE823F6C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8BD-72CA-4BAE-81D9-49B6190B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B8846-8760-4261-8DD8-091A1886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946D-7048-40F6-96D6-7D455D32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FFF4-EA0E-4C9E-A7F5-94458192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E500-4BDC-4BAD-BC83-CB27BC87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27469-4ECB-423F-AB98-5839404F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1273B-0D23-4248-B60D-859C4461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3DD2-AD10-4563-8BE0-70C79B9C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A61A-F9AE-4DA7-9DB9-5C9A00F5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FF60-7AF6-474E-A289-C46905225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9FB6-44F1-499A-90A6-0D6C65A1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BB4-1E4D-422C-81D4-442292FB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77D01-013A-4452-8D2D-245BF3CF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04F23-38F2-416F-B1E0-793302AD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241D3-E7EB-4AF5-AB53-C148CB1F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1D722-1C0C-49BF-A94E-8DA90709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7B85C-280D-455B-B40D-DA6834A4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E5211-455F-4C94-B3B1-810CC5AF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E628-4C58-414A-B26C-0BE70E0B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5822D-0A8D-4B6B-ADDC-A56F1165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91D29-6291-40B8-9523-2BECBD8A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456FB-623D-4428-A440-6328529A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4AF-E157-419E-92AC-9F9DC0DA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3987D-E895-44A1-B64B-D0CF8D79C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558A-1FFD-4CC3-BF67-3F2F7EA50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ECEF4-117F-4AFE-AA71-A956AB23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4EEB1-1596-4F64-BFEB-45ED0DFD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A6211-307E-404D-8C35-75930AB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B04A8-986B-4053-B6B1-B313DCE1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4AA2-A86C-43C4-8A53-3C85C500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AB15-BE17-42A0-B0A6-40345827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D00F1-57F1-4C10-97C1-52D0B118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70FD7-C2C7-4277-9A52-4102707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C3C-33E2-490E-BC21-E14857A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210E4-982E-4349-9577-A1D874D2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7A623-CD0F-45C7-8B63-3B4E3C2C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0F153-A757-419E-9C81-CFB1A641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8CB49-50B7-4E04-B328-75F40683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01061-D979-40ED-8701-816BB237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BDD6E-634B-4CC7-A6E8-D1883B54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D5F3A-742E-49B4-8F13-CDDF1EAA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AD581-6DC5-4425-8ECB-39B9B179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F6F7B-360D-46BE-99BE-FABE401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DC73-6503-4485-B21A-B589F29E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E242-A0B1-4E43-91FB-44E2A363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FE844-EC9F-43BB-9085-9ED89545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C1DC-0DAE-4D69-A0F6-C536AA04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AC48-D569-4881-84F4-72CB2EE8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A6CE8-BB90-4E82-935D-6F4B2AF1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9FC87-DCB6-4C9D-A4A9-271C63C6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4179B-28B4-468F-AB5E-5822D995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32E25-9DF0-4D2C-BECB-C37B9FE7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4C2CF-84C7-4A41-BE31-E2F892C0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7F0AA-4C7F-416B-85D4-747A5F50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ED0B5-6E43-4B16-97BF-C7B2ECD8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F1F-DC43-486A-AB50-5000B8C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5CC79-E8B2-40FA-A3D1-71F4EBBC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B1BFE-6F7C-435E-B436-92F65B50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9D9CB-2751-49AC-9CB7-BAD42D65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E91B8-594E-49D3-BA03-C7AF78B0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A4DB7-462A-49ED-8E4A-A02D716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BB946-F288-4963-BDFD-A12C5637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11CFD-D457-4E73-86FF-1210E2A1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C80F3-9B15-47FB-965F-6DCB8985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9EC9D-ADD0-4205-BABC-25826E95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74F99-4680-4FD3-863E-ED1392A2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DD20-910F-40A3-B3AF-007A49530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B6C3-8BFE-42B1-B77C-A443E01553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11C8-045E-435B-9E7E-BF55C22081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9408-14E9-452D-9260-260EFD16EE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3B9C-9813-4322-B643-A9B81C77D7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CAA6-8B98-478F-9BAF-2823CAB5BA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D8C7-5EA1-4B0C-A571-6A07BA054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761B-5E41-49EE-9F68-E613B4BE8A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A2E-D1F2-4D32-870B-6D88AC5F4F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9FA1-9F44-469A-809E-6C4394E867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4D35-FD57-4AC2-826B-F380B0D70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A933-960C-4B4A-AA4B-0A13E022B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0AC-22A0-4016-8AEA-D500EABFFE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507D-8200-44D0-9D0A-FC0E27630A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B409-77C7-4266-AAEB-3238D7E01C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5D6-962E-415C-9CAA-4656241378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4DA0-53B0-41B7-948C-DAE5B0783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1EC5-9B51-4C8E-BCBD-C58F32E80D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5A7C-BC2C-4CAC-ADF1-FCB1B2B183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B9A3-0615-49E9-865B-A9FC23E439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3E1B-EB3A-4C03-A862-E73F1F8517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767A-5617-4C43-AE08-E82F01931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41D1-6428-4EE9-AB8A-D8BACF38D4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7CBE-7F71-4F7C-BB83-FD8089C4FE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2C72-36D1-4324-9679-10ACEBDA6B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D02B-5BE5-457C-A7AC-6B7CAAB470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CBF5-8543-4EA5-A00E-36966474D5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A760-6485-4239-8975-6D771AC53F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D7E7-F413-405E-97CF-709942D723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A5FA-055A-49C3-B549-22A907F97E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818-052E-43E1-92E4-C159B5287B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69FF-C457-4EDC-A0EC-30CC2656D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0B76-486D-4EFF-9814-76F774D26D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A9FB-72BF-4DF8-AE00-DD156C8456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6F82-6B06-447C-B99E-58264ABEDC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090A-7D8C-4BF4-A475-DCA2DED6AB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5A53-BBFE-4BAC-808E-45D50CD9BB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5619-3E26-4F6B-8C4E-E54905E7F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B06F-24BE-4F32-842A-32CF76F3E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D006-8C1B-4354-8A2F-9041E79ABC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0680" y="2962440"/>
            <a:ext cx="45626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9633" descr=""/>
          <p:cNvPicPr/>
          <p:nvPr/>
        </p:nvPicPr>
        <p:blipFill>
          <a:blip r:embed="rId1"/>
          <a:stretch/>
        </p:blipFill>
        <p:spPr>
          <a:xfrm>
            <a:off x="247680" y="1471680"/>
            <a:ext cx="8648640" cy="39146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6265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68610" descr=""/>
          <p:cNvPicPr/>
          <p:nvPr/>
        </p:nvPicPr>
        <p:blipFill>
          <a:blip r:embed="rId1"/>
          <a:stretch/>
        </p:blipFill>
        <p:spPr>
          <a:xfrm>
            <a:off x="1181160" y="1268280"/>
            <a:ext cx="6781680" cy="2238480"/>
          </a:xfrm>
          <a:prstGeom prst="rect">
            <a:avLst/>
          </a:prstGeom>
          <a:ln w="0">
            <a:noFill/>
          </a:ln>
        </p:spPr>
      </p:pic>
      <p:pic>
        <p:nvPicPr>
          <p:cNvPr id="977" name="图片 68611" descr=""/>
          <p:cNvPicPr/>
          <p:nvPr/>
        </p:nvPicPr>
        <p:blipFill>
          <a:blip r:embed="rId2"/>
          <a:stretch/>
        </p:blipFill>
        <p:spPr>
          <a:xfrm>
            <a:off x="595440" y="3471840"/>
            <a:ext cx="7953120" cy="2333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3995640" y="1571760"/>
            <a:ext cx="633600" cy="3301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6877080" y="1557360"/>
            <a:ext cx="633240" cy="3301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3881520" y="2435400"/>
            <a:ext cx="633240" cy="3301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6877080" y="2463840"/>
            <a:ext cx="633240" cy="330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1619280" y="4221000"/>
            <a:ext cx="633240" cy="330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4500720" y="3803760"/>
            <a:ext cx="633240" cy="3301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7451640" y="4235400"/>
            <a:ext cx="792360" cy="3301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0"/>
          <a:stretch/>
        </p:blipFill>
        <p:spPr>
          <a:xfrm>
            <a:off x="1576440" y="5114880"/>
            <a:ext cx="792000" cy="3301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1"/>
          <a:stretch/>
        </p:blipFill>
        <p:spPr>
          <a:xfrm>
            <a:off x="4500720" y="4695840"/>
            <a:ext cx="576000" cy="3301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2"/>
          <a:stretch/>
        </p:blipFill>
        <p:spPr>
          <a:xfrm>
            <a:off x="7408800" y="5100480"/>
            <a:ext cx="5763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442800" y="914400"/>
            <a:ext cx="8258400" cy="502920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971640" y="2781360"/>
            <a:ext cx="1512720" cy="9349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771640" y="2751120"/>
            <a:ext cx="1513080" cy="934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971640" y="3919680"/>
            <a:ext cx="2736720" cy="934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900000" y="4941720"/>
            <a:ext cx="2737080" cy="9352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118120" y="2795760"/>
            <a:ext cx="1512720" cy="934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918480" y="2765520"/>
            <a:ext cx="1512720" cy="934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118120" y="3933720"/>
            <a:ext cx="2736720" cy="935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046840" y="4956120"/>
            <a:ext cx="27367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9410" descr=""/>
          <p:cNvPicPr/>
          <p:nvPr/>
        </p:nvPicPr>
        <p:blipFill>
          <a:blip r:embed="rId1"/>
          <a:stretch/>
        </p:blipFill>
        <p:spPr>
          <a:xfrm>
            <a:off x="633240" y="1314360"/>
            <a:ext cx="7877520" cy="4229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669960" y="2349360"/>
            <a:ext cx="1800360" cy="10083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2513160" y="2363760"/>
            <a:ext cx="1800000" cy="10080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826920" y="3443400"/>
            <a:ext cx="2665440" cy="1008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84360" y="4522680"/>
            <a:ext cx="2665440" cy="10080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6"/>
          <a:stretch/>
        </p:blipFill>
        <p:spPr>
          <a:xfrm>
            <a:off x="4989600" y="2335320"/>
            <a:ext cx="1800000" cy="10080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7"/>
          <a:stretch/>
        </p:blipFill>
        <p:spPr>
          <a:xfrm>
            <a:off x="6832440" y="2349360"/>
            <a:ext cx="1800360" cy="10083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8"/>
          <a:stretch/>
        </p:blipFill>
        <p:spPr>
          <a:xfrm>
            <a:off x="5146560" y="3429000"/>
            <a:ext cx="2665440" cy="10080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9"/>
          <a:stretch/>
        </p:blipFill>
        <p:spPr>
          <a:xfrm>
            <a:off x="5003640" y="4508640"/>
            <a:ext cx="2665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290520" y="1995480"/>
            <a:ext cx="8562960" cy="28670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258920" y="3774960"/>
            <a:ext cx="62658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7352" descr=""/>
          <p:cNvPicPr/>
          <p:nvPr/>
        </p:nvPicPr>
        <p:blipFill>
          <a:blip r:embed="rId1"/>
          <a:stretch/>
        </p:blipFill>
        <p:spPr>
          <a:xfrm>
            <a:off x="247680" y="800280"/>
            <a:ext cx="8648640" cy="57243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3635280" y="233532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3564000" y="2997360"/>
            <a:ext cx="633240" cy="502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3419640" y="4451400"/>
            <a:ext cx="936360" cy="5032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3419640" y="5848200"/>
            <a:ext cx="936360" cy="503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6"/>
          <a:stretch/>
        </p:blipFill>
        <p:spPr>
          <a:xfrm>
            <a:off x="4932360" y="236376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7"/>
          <a:stretch/>
        </p:blipFill>
        <p:spPr>
          <a:xfrm>
            <a:off x="4861080" y="302580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8"/>
          <a:stretch/>
        </p:blipFill>
        <p:spPr>
          <a:xfrm>
            <a:off x="4716360" y="4479840"/>
            <a:ext cx="936720" cy="503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9"/>
          <a:stretch/>
        </p:blipFill>
        <p:spPr>
          <a:xfrm>
            <a:off x="4716360" y="5877000"/>
            <a:ext cx="936720" cy="5032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0"/>
          <a:stretch/>
        </p:blipFill>
        <p:spPr>
          <a:xfrm>
            <a:off x="6242040" y="236376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1"/>
          <a:stretch/>
        </p:blipFill>
        <p:spPr>
          <a:xfrm>
            <a:off x="6170760" y="302580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2"/>
          <a:stretch/>
        </p:blipFill>
        <p:spPr>
          <a:xfrm>
            <a:off x="6026040" y="4479840"/>
            <a:ext cx="936720" cy="5032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3"/>
          <a:stretch/>
        </p:blipFill>
        <p:spPr>
          <a:xfrm>
            <a:off x="6026040" y="5877000"/>
            <a:ext cx="936720" cy="5032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4"/>
          <a:stretch/>
        </p:blipFill>
        <p:spPr>
          <a:xfrm>
            <a:off x="7682040" y="2363760"/>
            <a:ext cx="633240" cy="503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5"/>
          <a:stretch/>
        </p:blipFill>
        <p:spPr>
          <a:xfrm>
            <a:off x="7610400" y="3025800"/>
            <a:ext cx="633600" cy="5032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6"/>
          <a:stretch/>
        </p:blipFill>
        <p:spPr>
          <a:xfrm>
            <a:off x="7466040" y="4479840"/>
            <a:ext cx="936720" cy="5032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7"/>
          <a:stretch/>
        </p:blipFill>
        <p:spPr>
          <a:xfrm>
            <a:off x="7466040" y="5877000"/>
            <a:ext cx="936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6324" descr=""/>
          <p:cNvPicPr/>
          <p:nvPr/>
        </p:nvPicPr>
        <p:blipFill>
          <a:blip r:embed="rId1"/>
          <a:stretch/>
        </p:blipFill>
        <p:spPr>
          <a:xfrm>
            <a:off x="828720" y="2610000"/>
            <a:ext cx="7486560" cy="1638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4932360" y="3156120"/>
            <a:ext cx="934920" cy="50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5300" descr=""/>
          <p:cNvPicPr/>
          <p:nvPr/>
        </p:nvPicPr>
        <p:blipFill>
          <a:blip r:embed="rId1"/>
          <a:stretch/>
        </p:blipFill>
        <p:spPr>
          <a:xfrm>
            <a:off x="171360" y="895320"/>
            <a:ext cx="8801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4276" descr=""/>
          <p:cNvPicPr/>
          <p:nvPr/>
        </p:nvPicPr>
        <p:blipFill>
          <a:blip r:embed="rId1"/>
          <a:stretch/>
        </p:blipFill>
        <p:spPr>
          <a:xfrm>
            <a:off x="723960" y="1281240"/>
            <a:ext cx="7696080" cy="4295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656000" cy="9363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2700360" y="1916280"/>
            <a:ext cx="1655640" cy="9363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4"/>
          <a:stretch/>
        </p:blipFill>
        <p:spPr>
          <a:xfrm>
            <a:off x="826920" y="2952720"/>
            <a:ext cx="4824720" cy="9367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5"/>
          <a:stretch/>
        </p:blipFill>
        <p:spPr>
          <a:xfrm>
            <a:off x="684360" y="4005360"/>
            <a:ext cx="4824360" cy="9363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6"/>
          <a:stretch/>
        </p:blipFill>
        <p:spPr>
          <a:xfrm>
            <a:off x="826920" y="5013360"/>
            <a:ext cx="82440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2231" descr=""/>
          <p:cNvPicPr/>
          <p:nvPr/>
        </p:nvPicPr>
        <p:blipFill>
          <a:blip r:embed="rId1"/>
          <a:stretch/>
        </p:blipFill>
        <p:spPr>
          <a:xfrm>
            <a:off x="152280" y="744480"/>
            <a:ext cx="8839440" cy="5924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684360" y="3083040"/>
            <a:ext cx="1726920" cy="9936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2627280" y="3068640"/>
            <a:ext cx="1727280" cy="9936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4392720" cy="993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395280" y="5113440"/>
            <a:ext cx="4392720" cy="9936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611280" y="6208560"/>
            <a:ext cx="74167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23:3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